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6E4-60B6-49CA-A250-A0B3BEEF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6C6-9C83-4900-8134-84D1D5F3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782-9179-4651-A6F9-79B19F7C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32A-6AB9-4048-B99E-F5FBF134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0B6-B2E1-4054-ABE6-E2487955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453-E648-4226-82B1-F7FA491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180-A9C7-4881-89AF-F07B194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550-E59A-440F-8827-864D76F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72C-6575-4CCC-B7DB-90EC1572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DCC-76A6-491E-A935-7DD8FB8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5A0-B53D-43C0-93AD-858C146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D01-003D-48E1-A5DB-FA08FF7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ACA-75A8-40E9-A3D8-B4E814A8D0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1.2 </a:t>
            </a:r>
            <a:br>
              <a:rPr sz="4400"/>
            </a:b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uccess With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eep Clue words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an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ke Accuracy you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that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ories and novels are the most common narrativ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formation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that mainly gives information about a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science or history text book are examples of informational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ersuasiv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that tries to convince you to do something or think in a certain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itorials, letters to the editor, and advertisements are examples of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suasiv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veryday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type of writing you see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od labels, text messaging, sets of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Reading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e are going to look at 6 different types of reading pass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k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rrativ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ormational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uasiv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eryda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fast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get the main ideas and a few but not all of th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rehension is intentionally lower; around 50-60% (60% high r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ing technique when you want to locate a single fact or a specific bit of information without reading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do we use sc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using a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ok to find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telephone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uide to fi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fic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wan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92360" y="1554120"/>
            <a:ext cx="56516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- How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ften scanning is done with material you know something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phone book on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know the names are arr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phabetically accor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732720" y="2708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- How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ganization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ctionary, index of a boo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8564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on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85640" indent="-49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V guide, (arranged by day and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ing of the top 40 songs arranged by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- How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ganization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wspaper and magazine articles with varying types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must look at titles, subheadings, ill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Jason</cp:lastModifiedBy>
  <dcterms:modified xsi:type="dcterms:W3CDTF">2011-02-07T15:53:58Z</dcterms:modified>
  <cp:revision>38</cp:revision>
  <dc:subject/>
  <dc:title>Diapositiva 1</dc:title>
</cp:coreProperties>
</file>